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66A9-640A-4D3E-ABA1-88794866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8157-3F9D-4DE3-93D0-5A9C6ED3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1A71-8549-4864-8228-7CF4AC52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8413-6D3A-4087-AEDF-405121AC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49D6-9515-46F5-A6CC-724B3E1C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65FD-9BBC-4345-ACC8-8034392C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688A-C9F0-4C7B-B685-651E6307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A395-B563-45C9-98E3-F6795C89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9FFA-2C83-43BD-A8A7-02B8767F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6F04-E1D3-4C8E-87B2-55148422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856F-9F54-4C29-AA1E-61AD34E7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8AB2-E959-44F8-90EA-51415D74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1A32-CC64-4A79-8B9E-C8E3A580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804B-174E-409A-9E81-539C9387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7CBB-246F-4732-95D3-0BAA5C80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AB3C-4DCC-44AF-A0ED-C903171F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FEE1-D890-442D-9BD8-E0A880F3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343D3-E4D7-4DE2-87B3-585EC7F5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15B50-63C6-4773-ABE1-FF7821F2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6F417-5555-430C-BD71-D7CCFB10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40535-836A-4E1C-B609-7B3B9925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52754-A240-4FB4-98E1-0812E3B0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F872-3FCD-4B41-A67C-719BF520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0B063-B742-4F36-B60E-4375EFDB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AFC15-837B-4522-9B35-1AC61B29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B638D-5127-49D4-AC97-3C3D1037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A7030-EE19-4E3F-B4EC-6AE3CBA0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39EBC-D4BA-4E6F-894C-DCC9A96E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03D92-CA30-4CB5-841E-6A973D34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D40FB-B751-4DF5-A894-0C2779593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99E1F-E176-4452-9082-8CAB7CA9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EBF8A-EC54-4879-A671-E60C08D4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BA202-1663-40DA-AAAA-7EC22828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9D4F-D644-4221-9000-F1DE9460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45B3E-3B98-4484-BDBD-508FB074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9AAEF-3AA3-4D6B-AD68-5BC89713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634C7-9AF0-461C-9A12-325EBC18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616F7-8C7B-4D4B-AEC9-0D873963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12B05-44BB-41BC-8C78-CD9BA341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3C0D2-42E1-4822-9701-ED3BCC72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CECEA-C759-4FC9-8240-BD6385C5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3A94F-663C-4C04-95E4-AB735EB2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1FA4E-4F0D-4C5E-B583-4B690C71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D1C51-0122-40CE-9320-8C8EFE92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DFB0-D357-4DDB-AABB-45546DC8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723CA-B122-478C-BEC2-3ADEFEA3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E9E04-A5B5-4A29-9AD7-9FE26EBA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1E3D5-8E97-4980-B461-DEFEC267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1E90C-8E17-4F18-BF7F-151B19F3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77F28-DAEA-462D-9C1D-92654777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2C47C-9EA3-4D39-80DC-A7832D4C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8A7AA-F2C2-4BA7-822A-AD85484F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3245D-164F-4C6E-8FE4-4CB232DB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8596D-7607-4463-8544-B34CA615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CF20C-E5A3-45A8-869F-0971F6E8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EFDE-A8B7-4265-AA8B-F8E2AF31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790BC-94E0-494A-8261-AFA98E87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B570-7C8B-4F0C-8547-C10F02FF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D5D-FC64-46CC-8084-47177C1C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D1CE-2347-4B13-AB8C-581BD626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9CFD-D175-4429-A1B8-4BBE33EF9A53}" type="datetime2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Mr. Sec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649C-DE2B-4FB8-944E-276598C8C164}" type="datetime2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Mr. Sec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4878-F55C-4F1C-A04A-9126F80997F3}" type="datetime2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Mr. Sec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B1C7-8D7E-4083-B583-38849C0CC949}" type="datetime2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Mr. Sec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F679-3562-4C7D-82C8-B0FA6C52789A}" type="datetime2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Mr. Sec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youtube.com/watch?v=vNzTYzjLgKE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0920" y="806040"/>
            <a:ext cx="4537080" cy="28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92934"/>
                </a:solidFill>
                <a:latin typeface="Arial"/>
              </a:rPr>
              <a:t>4.2 QUANTITATIVE PHYSICAL PROPERTIES</a:t>
            </a:r>
            <a:br>
              <a:rPr sz="4000"/>
            </a:b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0" name="Picture 5" descr="http://www.unique-designer-jewelry.com/images2/gmr17.jpg"/>
          <p:cNvPicPr/>
          <p:nvPr/>
        </p:nvPicPr>
        <p:blipFill>
          <a:blip r:embed="rId1"/>
          <a:stretch/>
        </p:blipFill>
        <p:spPr>
          <a:xfrm>
            <a:off x="5508720" y="1844640"/>
            <a:ext cx="3286080" cy="24195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"/>
          <p:cNvPicPr/>
          <p:nvPr/>
        </p:nvPicPr>
        <p:blipFill>
          <a:blip r:embed="rId1"/>
          <a:srcRect l="0" t="0" r="0" b="10949"/>
          <a:stretch/>
        </p:blipFill>
        <p:spPr>
          <a:xfrm>
            <a:off x="2023920" y="2689200"/>
            <a:ext cx="4953240" cy="41688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2"/>
          <p:cNvSpPr/>
          <p:nvPr/>
        </p:nvSpPr>
        <p:spPr>
          <a:xfrm>
            <a:off x="324000" y="476280"/>
            <a:ext cx="84247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30280"/>
                <a:tab algn="l" pos="2860560"/>
                <a:tab algn="l" pos="4290840"/>
                <a:tab algn="l" pos="5721480"/>
                <a:tab algn="l" pos="7151760"/>
                <a:tab algn="l" pos="8582040"/>
                <a:tab algn="l" pos="10012320"/>
              </a:tabLst>
            </a:pPr>
            <a:r>
              <a:rPr b="1" lang="en-CA" sz="2400" spc="-1" strike="noStrike">
                <a:solidFill>
                  <a:srgbClr val="d2533c"/>
                </a:solidFill>
                <a:latin typeface="Arial"/>
              </a:rPr>
              <a:t>Viscosity</a:t>
            </a: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buClr>
                <a:srgbClr val="292934"/>
              </a:buClr>
              <a:buSzPct val="85000"/>
              <a:buFont typeface="Arial"/>
              <a:buChar char="•"/>
              <a:tabLst>
                <a:tab algn="l" pos="1430280"/>
                <a:tab algn="l" pos="2860560"/>
                <a:tab algn="l" pos="4290840"/>
                <a:tab algn="l" pos="5721480"/>
                <a:tab algn="l" pos="7151760"/>
                <a:tab algn="l" pos="8582040"/>
                <a:tab algn="l" pos="1001232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resistance to flow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buClr>
                <a:srgbClr val="292934"/>
              </a:buClr>
              <a:buSzPct val="85000"/>
              <a:buFont typeface="Arial"/>
              <a:buChar char="•"/>
              <a:tabLst>
                <a:tab algn="l" pos="1430280"/>
                <a:tab algn="l" pos="2860560"/>
                <a:tab algn="l" pos="4290840"/>
                <a:tab algn="l" pos="5721480"/>
                <a:tab algn="l" pos="7151760"/>
                <a:tab algn="l" pos="8582040"/>
                <a:tab algn="l" pos="1001232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can be measured as time it takes to flow (</a:t>
            </a:r>
            <a:r>
              <a:rPr b="0" lang="en-CA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nimation</a:t>
            </a: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1430280"/>
                <a:tab algn="l" pos="2860560"/>
                <a:tab algn="l" pos="4290840"/>
                <a:tab algn="l" pos="5721480"/>
                <a:tab algn="l" pos="7151760"/>
                <a:tab algn="l" pos="8582040"/>
                <a:tab algn="l" pos="10012320"/>
              </a:tabLst>
            </a:pPr>
            <a:endParaRPr b="0" lang="en-US" sz="10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1430280"/>
                <a:tab algn="l" pos="2860560"/>
                <a:tab algn="l" pos="4290840"/>
                <a:tab algn="l" pos="5721480"/>
                <a:tab algn="l" pos="7151760"/>
                <a:tab algn="l" pos="8582040"/>
                <a:tab algn="l" pos="10012320"/>
              </a:tabLst>
            </a:pPr>
            <a:r>
              <a:rPr b="1" lang="en-CA" sz="2400" spc="-1" strike="noStrike">
                <a:solidFill>
                  <a:srgbClr val="d2533c"/>
                </a:solidFill>
                <a:latin typeface="Arial"/>
              </a:rPr>
              <a:t>Melting point and boiling point</a:t>
            </a: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buClr>
                <a:srgbClr val="292934"/>
              </a:buClr>
              <a:buSzPct val="85000"/>
              <a:buFont typeface="Arial"/>
              <a:buChar char="•"/>
              <a:tabLst>
                <a:tab algn="l" pos="1430280"/>
                <a:tab algn="l" pos="2860560"/>
                <a:tab algn="l" pos="4290840"/>
                <a:tab algn="l" pos="5721480"/>
                <a:tab algn="l" pos="7151760"/>
                <a:tab algn="l" pos="8582040"/>
                <a:tab algn="l" pos="1001232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copy the figure 4.8 from your text, define </a:t>
            </a:r>
            <a:r>
              <a:rPr b="1" i="1" lang="en-CA" sz="2400" spc="-1" strike="noStrike">
                <a:solidFill>
                  <a:srgbClr val="292934"/>
                </a:solidFill>
                <a:latin typeface="Arial"/>
              </a:rPr>
              <a:t>melting point</a:t>
            </a: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 and </a:t>
            </a:r>
            <a:r>
              <a:rPr b="1" i="1" lang="en-CA" sz="2400" spc="-1" strike="noStrike">
                <a:solidFill>
                  <a:srgbClr val="292934"/>
                </a:solidFill>
                <a:latin typeface="Arial"/>
              </a:rPr>
              <a:t> boiling point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68360" y="54936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533c"/>
                </a:solidFill>
                <a:latin typeface="Arial"/>
              </a:rPr>
              <a:t>Solubilit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533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 measure of the ability of a substance to dissolve in another substance.  A measure of HOW MUCH can dissolve into a given solution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54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8f67"/>
                </a:solidFill>
                <a:latin typeface="Arial"/>
              </a:rPr>
              <a:t>Solut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ubstance that dissolves in the solution (sugar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54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8f67"/>
                </a:solidFill>
                <a:latin typeface="Arial"/>
              </a:rPr>
              <a:t>Solven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ubstance that dissolves the solute (water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Water = universal solven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Demo (sugar and copper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94920" y="907560"/>
            <a:ext cx="4762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d2533c"/>
                </a:solidFill>
                <a:latin typeface="Arial"/>
              </a:rPr>
              <a:t>Hardness</a:t>
            </a: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the ability of a substance to be scratch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measured on the mohs scale, between 1 and 10 (diamonds are 10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rcRect l="69619" t="0" r="0" b="0"/>
          <a:stretch/>
        </p:blipFill>
        <p:spPr>
          <a:xfrm>
            <a:off x="5435640" y="1557360"/>
            <a:ext cx="3073320" cy="5056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2"/>
          <a:stretch/>
        </p:blipFill>
        <p:spPr>
          <a:xfrm>
            <a:off x="971640" y="3951360"/>
            <a:ext cx="3965400" cy="2639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6" descr=""/>
          <p:cNvPicPr/>
          <p:nvPr/>
        </p:nvPicPr>
        <p:blipFill>
          <a:blip r:embed="rId1"/>
          <a:stretch/>
        </p:blipFill>
        <p:spPr>
          <a:xfrm>
            <a:off x="7093080" y="907920"/>
            <a:ext cx="2020680" cy="20210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1925640" y="2151000"/>
            <a:ext cx="6996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533c"/>
                </a:solidFill>
                <a:latin typeface="Arial"/>
              </a:rPr>
              <a:t>Density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176040" indent="-17604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s the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mass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of a material within a certain volume.  The density of water is 1g/ml (or 1g/cm</a:t>
            </a:r>
            <a:r>
              <a:rPr b="0" lang="en-US" sz="2400" spc="-1" strike="noStrike" baseline="30000">
                <a:solidFill>
                  <a:srgbClr val="292934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176040" indent="-17604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most dense material (greater number) sink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176040" indent="-17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Density is calculated as follows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176040" indent="-17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Density =   </a:t>
            </a:r>
            <a:r>
              <a:rPr b="1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mass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       or  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D</a:t>
            </a:r>
            <a:r>
              <a:rPr b="1" i="1" lang="en-US" sz="2400" spc="-1" strike="noStrike">
                <a:solidFill>
                  <a:srgbClr val="292934"/>
                </a:solidFill>
                <a:latin typeface="Arial"/>
              </a:rPr>
              <a:t> =  </a:t>
            </a:r>
            <a:r>
              <a:rPr b="1" i="1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volume                    </a:t>
            </a:r>
            <a:r>
              <a:rPr b="1" i="1" lang="en-US" sz="2400" spc="-1" strike="noStrike">
                <a:solidFill>
                  <a:srgbClr val="292934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1979640" y="4941720"/>
            <a:ext cx="6985080" cy="1079640"/>
          </a:xfrm>
          <a:prstGeom prst="rect">
            <a:avLst/>
          </a:prstGeom>
          <a:noFill/>
          <a:ln w="44280">
            <a:solidFill>
              <a:srgbClr val="808d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2"/>
          <a:stretch/>
        </p:blipFill>
        <p:spPr>
          <a:xfrm>
            <a:off x="-17640" y="2349360"/>
            <a:ext cx="1905120" cy="43434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1"/>
          <p:cNvSpPr/>
          <p:nvPr/>
        </p:nvSpPr>
        <p:spPr>
          <a:xfrm>
            <a:off x="539640" y="620640"/>
            <a:ext cx="7848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533c"/>
                </a:solidFill>
                <a:latin typeface="Arial"/>
              </a:rPr>
              <a:t>Conductivity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ability of a substance to conduct electricity (i.e. copper in electrical wires) or to conduct he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7:18:31Z</dcterms:created>
  <dc:creator>Daniel Secours</dc:creator>
  <dc:description/>
  <dc:language>en-US</dc:language>
  <cp:lastModifiedBy>Katie</cp:lastModifiedBy>
  <dcterms:modified xsi:type="dcterms:W3CDTF">2014-10-01T19:29:29Z</dcterms:modified>
  <cp:revision>50</cp:revision>
  <dc:subject/>
  <dc:title>La durabilité des écosystèmes  SNC 1DF</dc:title>
</cp:coreProperties>
</file>